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9D49-D365-4578-8F65-0049BF7C0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40E2-CC7C-41E8-B4BE-47429E4A1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9C22-25DC-4C0A-9CF5-60ADA3DB8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ACED-6C16-4F0D-A6ED-2B5E6C40A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208-676D-4BC9-B427-6367E8042E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417-9D10-46D2-88E5-99DC8D1C5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179-5C3D-4BFE-98CB-27D57F95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91A-1CC1-45A4-8BD3-FED85571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1BF-D4EF-4021-9570-6092C54A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672-D58A-47BF-8287-73F24EED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16E-7688-47C3-8A98-BD80464C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E639-97FF-4CAB-BEDB-CDBB17A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1571-374B-4CC8-B92A-92D60D17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999-EA8A-4CC7-8A86-1C07EDC5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813-F2DB-4998-BE08-F6758D77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99D9-5D25-47FB-816F-D31A92AE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C236-FB63-42E4-A328-2C8D6DF1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829-FFFE-4BBD-A0C7-808CB6BE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A87-AAEA-4A1E-8726-475963CD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3AAE-82F2-4CF2-AA31-D5AB5F3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229-994C-42C8-AE4E-E842D6F8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E38E-50A1-4104-9713-518FD171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AC3B-B478-4C61-B0DE-C3C2E1D4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D30-AA39-424D-86D0-19DF993B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308-A818-4920-8901-D55B3EA3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1B6-04E8-4D28-BD97-8874CC2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DD3-9E86-4918-B3DE-7AA186E3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EE0-3C36-4AA2-8F1F-07EA615C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BD9-1F3B-430C-A397-232D21A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419-7DE2-44B3-A745-AD33930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9C7-98EE-4ECD-9645-240FD393E0F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BC39-4C67-4FF7-B95C-7EA6CAB1D68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603360" y="755640"/>
            <a:ext cx="7785000" cy="169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Book Antiqua"/>
              </a:rPr>
              <a:t>Mi </a:t>
            </a:r>
            <a:r>
              <a:rPr b="1" lang="en-US" sz="3200" spc="-1" strike="noStrike">
                <a:solidFill>
                  <a:srgbClr val="0d0d0d"/>
                </a:solidFill>
                <a:latin typeface="Aharoni"/>
                <a:ea typeface="Aharoni"/>
              </a:rPr>
              <a:t>nombre</a:t>
            </a:r>
            <a:r>
              <a:rPr b="1" lang="en-US" sz="3200" spc="-1" strike="noStrike">
                <a:solidFill>
                  <a:srgbClr val="0d0d0d"/>
                </a:solidFill>
                <a:latin typeface="Book Antiqua"/>
              </a:rPr>
              <a:t>: Alec Dal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90720" y="1447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 el desayuno me gusta com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2438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P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860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toc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114800" y="2438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629400" y="243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bag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295280" y="4648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desayuno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jugo de naranj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828800" y="2971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2" descr="bacon"/>
          <p:cNvPicPr/>
          <p:nvPr/>
        </p:nvPicPr>
        <p:blipFill>
          <a:blip r:embed="rId3"/>
          <a:stretch/>
        </p:blipFill>
        <p:spPr>
          <a:xfrm>
            <a:off x="1981080" y="2819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4"/>
          <p:cNvSpPr/>
          <p:nvPr/>
        </p:nvSpPr>
        <p:spPr>
          <a:xfrm>
            <a:off x="3343320" y="2500200"/>
            <a:ext cx="24573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6" descr="banana"/>
          <p:cNvPicPr/>
          <p:nvPr/>
        </p:nvPicPr>
        <p:blipFill>
          <a:blip r:embed="rId4"/>
          <a:stretch/>
        </p:blipFill>
        <p:spPr>
          <a:xfrm>
            <a:off x="0" y="2819520"/>
            <a:ext cx="1828800" cy="1869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eggs"/>
          <p:cNvPicPr/>
          <p:nvPr/>
        </p:nvPicPr>
        <p:blipFill>
          <a:blip r:embed="rId5"/>
          <a:stretch/>
        </p:blipFill>
        <p:spPr>
          <a:xfrm>
            <a:off x="3962520" y="274320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0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32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4" descr="42279-bagels"/>
          <p:cNvPicPr/>
          <p:nvPr/>
        </p:nvPicPr>
        <p:blipFill>
          <a:blip r:embed="rId6"/>
          <a:stretch/>
        </p:blipFill>
        <p:spPr>
          <a:xfrm>
            <a:off x="6400800" y="2819520"/>
            <a:ext cx="1981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3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0" descr="orange-juice-01"/>
          <p:cNvPicPr/>
          <p:nvPr/>
        </p:nvPicPr>
        <p:blipFill>
          <a:blip r:embed="rId7"/>
          <a:stretch/>
        </p:blipFill>
        <p:spPr>
          <a:xfrm>
            <a:off x="1905120" y="5029200"/>
            <a:ext cx="31240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80880" y="13716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almuerzo me gusta com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2860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bocadi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981080" y="2286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nach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962520" y="2286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s patatas f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248520" y="2286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pepini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57200" y="46483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almuerzo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leche con chocol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13" descr="ANd9GcTWciDaQ5eGU6-Groyd2pWW6wvuKOZHn6dW2Q7Ae9WOXHi10UF4QA"/>
          <p:cNvPicPr/>
          <p:nvPr/>
        </p:nvPicPr>
        <p:blipFill>
          <a:blip r:embed="rId3"/>
          <a:stretch/>
        </p:blipFill>
        <p:spPr>
          <a:xfrm>
            <a:off x="3505320" y="4962600"/>
            <a:ext cx="2133360" cy="18954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5"/>
          <p:cNvSpPr/>
          <p:nvPr/>
        </p:nvSpPr>
        <p:spPr>
          <a:xfrm>
            <a:off x="3357720" y="2490840"/>
            <a:ext cx="242856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681360" y="2738520"/>
            <a:ext cx="17812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3681360" y="2738520"/>
            <a:ext cx="17812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1" descr="turkeysandwich"/>
          <p:cNvPicPr/>
          <p:nvPr/>
        </p:nvPicPr>
        <p:blipFill>
          <a:blip r:embed="rId4"/>
          <a:stretch/>
        </p:blipFill>
        <p:spPr>
          <a:xfrm>
            <a:off x="0" y="26668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23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25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7" descr="pickles1"/>
          <p:cNvPicPr/>
          <p:nvPr/>
        </p:nvPicPr>
        <p:blipFill>
          <a:blip r:embed="rId5"/>
          <a:stretch/>
        </p:blipFill>
        <p:spPr>
          <a:xfrm>
            <a:off x="6019920" y="2666880"/>
            <a:ext cx="193824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9" descr="http://t2.gstatic.com/images?q=tbn:ANd9GcQmFFWe5FKHnlLw8VraRT6_i8_fxYENINuPmOnwR9SBiIxzyStkiA"/>
          <p:cNvPicPr/>
          <p:nvPr/>
        </p:nvPicPr>
        <p:blipFill>
          <a:blip r:embed="rId6"/>
          <a:stretch/>
        </p:blipFill>
        <p:spPr>
          <a:xfrm>
            <a:off x="1905120" y="281952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http://t3.gstatic.com/images?q=tbn:ANd9GcRTrlYA8H2L6z0QOtPlpmmHTCu550-u1HGcklnsmIZGcZblhDQJkg"/>
          <p:cNvPicPr/>
          <p:nvPr/>
        </p:nvPicPr>
        <p:blipFill>
          <a:blip r:embed="rId7"/>
          <a:stretch/>
        </p:blipFill>
        <p:spPr>
          <a:xfrm>
            <a:off x="3809880" y="259092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380880" y="1447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la cena me gusta com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4572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la cena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coca co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0.gstatic.com/images?q=tbn:ANd9GcTMqULipmNkpZVOkAvLSEdt7GVsVP-sntwkxX8CSP5N1Tt299qS"/>
          <p:cNvPicPr/>
          <p:nvPr/>
        </p:nvPicPr>
        <p:blipFill>
          <a:blip r:embed="rId3"/>
          <a:stretch/>
        </p:blipFill>
        <p:spPr>
          <a:xfrm>
            <a:off x="4495680" y="457200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808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hamburgu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51460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45720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sopa de almej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8580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an ital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http://t1.gstatic.com/images?q=tbn:ANd9GcR_SWVmSNYSuv4fwbpPVpi9oHR9sVQjzO5mSqm6lAxE-X0-TGD6Vg"/>
          <p:cNvPicPr/>
          <p:nvPr/>
        </p:nvPicPr>
        <p:blipFill>
          <a:blip r:embed="rId4"/>
          <a:stretch/>
        </p:blipFill>
        <p:spPr>
          <a:xfrm>
            <a:off x="6629400" y="2590920"/>
            <a:ext cx="2438280" cy="1885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2" descr="http://media-files.gather.com/images/d747/d625/d744/d224/d96/f3/full.jpg"/>
          <p:cNvPicPr/>
          <p:nvPr/>
        </p:nvPicPr>
        <p:blipFill>
          <a:blip r:embed="rId5"/>
          <a:stretch/>
        </p:blipFill>
        <p:spPr>
          <a:xfrm>
            <a:off x="4495680" y="25909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6" descr="http://www.conservapedia.com/images/4/42/French_fries.jpg"/>
          <p:cNvPicPr/>
          <p:nvPr/>
        </p:nvPicPr>
        <p:blipFill>
          <a:blip r:embed="rId6"/>
          <a:stretch/>
        </p:blipFill>
        <p:spPr>
          <a:xfrm>
            <a:off x="2362320" y="2590920"/>
            <a:ext cx="205740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http://www.knowledgerush.com/wiki_image/3/3b/Hamburger.jpg"/>
          <p:cNvPicPr/>
          <p:nvPr/>
        </p:nvPicPr>
        <p:blipFill>
          <a:blip r:embed="rId7"/>
          <a:stretch/>
        </p:blipFill>
        <p:spPr>
          <a:xfrm>
            <a:off x="228600" y="25909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8088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postre me gusta com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90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udí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057400" y="2590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astel de choco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572000" y="2590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helado de vaini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7162920" y="2590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as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33520" y="4800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postre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lech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http://www.cookiemadness.net/wp-content/uploads/2009/07/maya-chocolate-cream-pie.jpg"/>
          <p:cNvPicPr/>
          <p:nvPr/>
        </p:nvPicPr>
        <p:blipFill>
          <a:blip r:embed="rId3"/>
          <a:stretch/>
        </p:blipFill>
        <p:spPr>
          <a:xfrm>
            <a:off x="6781680" y="297180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t1.gstatic.com/images?q=tbn:ANd9GcR7ja_1053356XeVS5eKonEiIRcVPHJJ_E15R3u3Zaw0JDTF9EV&amp;t=1"/>
          <p:cNvPicPr/>
          <p:nvPr/>
        </p:nvPicPr>
        <p:blipFill>
          <a:blip r:embed="rId4"/>
          <a:stretch/>
        </p:blipFill>
        <p:spPr>
          <a:xfrm>
            <a:off x="1905120" y="2971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nwamotherlode.com/wp-content/uploads/2011/01/ice-cream2.jpg"/>
          <p:cNvPicPr/>
          <p:nvPr/>
        </p:nvPicPr>
        <p:blipFill>
          <a:blip r:embed="rId5"/>
          <a:stretch/>
        </p:blipFill>
        <p:spPr>
          <a:xfrm>
            <a:off x="4648320" y="2971800"/>
            <a:ext cx="188100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ttp://jedimarri.files.wordpress.com/2008/07/pudding.jpg"/>
          <p:cNvPicPr/>
          <p:nvPr/>
        </p:nvPicPr>
        <p:blipFill>
          <a:blip r:embed="rId6"/>
          <a:stretch/>
        </p:blipFill>
        <p:spPr>
          <a:xfrm>
            <a:off x="76320" y="29718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http://turbo.indyposted.com/wp-content/uploads/2010/12/Glass-of-Milk.jpg"/>
          <p:cNvPicPr/>
          <p:nvPr/>
        </p:nvPicPr>
        <p:blipFill>
          <a:blip r:embed="rId7"/>
          <a:stretch/>
        </p:blipFill>
        <p:spPr>
          <a:xfrm>
            <a:off x="2590920" y="525780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5:35Z</dcterms:created>
  <dc:creator>dalyale</dc:creator>
  <dc:description/>
  <dc:language>en-US</dc:language>
  <cp:lastModifiedBy>dalyale</cp:lastModifiedBy>
  <dcterms:modified xsi:type="dcterms:W3CDTF">2011-04-14T17:43:25Z</dcterms:modified>
  <cp:revision>9</cp:revision>
  <dc:subject/>
  <dc:title>Las Comidas</dc:title>
</cp:coreProperties>
</file>